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7E45-4189-492E-BED1-B45D8CBF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F5D-9445-4C1E-9558-F0839166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7068-BA90-4CE9-8532-DC34C3F1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8F83-E8F8-4553-9D9C-22293FCD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9EFC-302C-48E8-B7E3-24CBE6D2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E612-9136-4F99-BAB5-D4B56CBA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85F9-90FB-47AC-AB39-C06F625B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F629-82E5-40AC-BC58-D88B3E8A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2318-51BA-4578-A763-45C98A7C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F98B-3AC4-4A7D-A8CA-C56D4600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C0B0-B952-4A94-AEDB-DCD94E8A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07E-E6F0-4C08-8BC2-F3EFCCAF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AD96-9985-435D-99DD-966948E0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8F94-33A1-43F2-AD7E-D9F1A65F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661A-2955-49D9-9613-C2B379C5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84A6-AACE-4FE8-BB2F-F19AF15D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A01B-3AF4-419F-9DC8-A46EEB3D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8A25-EAEB-4E02-855C-8CCB68A4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A59F-0611-42C5-86A1-48A98670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B537-3D29-4FA4-A044-9170C286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760-B4A6-48A7-A1D2-37E83B93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BD0-D840-4CA6-8A14-B694AD21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402-7BDE-4991-8505-78ECA392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4ED-61E1-4B44-B73D-52F56B4C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2CFF-98A3-4F21-9064-A39858051A4D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4E93-1FC8-459C-BA6C-800D4AAD47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78BF-A1DF-4361-B4A3-53207EF4987A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4A33-0F48-4CC0-81B9-6C7756A9FEF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4B59-8511-4E8A-8235-102F9D746068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D032-3DD8-47D2-916C-9B8CD7C9BB7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cc00"/>
                </a:solidFill>
                <a:latin typeface="Times New Roman"/>
              </a:rPr>
              <a:t>Поремећаји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малог мозга</a:t>
            </a:r>
            <a:br>
              <a:rPr sz="4400"/>
            </a:br>
            <a:br>
              <a:rPr sz="4400"/>
            </a:br>
            <a:r>
              <a:rPr b="0" lang="sr-RS" sz="1600" spc="-1" strike="noStrike">
                <a:solidFill>
                  <a:srgbClr val="ffcc00"/>
                </a:solidFill>
                <a:latin typeface="Times New Roman"/>
              </a:rPr>
              <a:t>проф др Светлана Милетић Дракулић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C71B-0535-4CE9-9CE6-9ED8BA0851AE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38FB-3642-47D6-809D-B48A49262C0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cc00"/>
                </a:solidFill>
                <a:latin typeface="Times New Roman"/>
              </a:rPr>
              <a:t>симптоми и знаци оштећења малог мозг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Атаксија  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екстремите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атаксија хода ,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оремећај равнотеж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ореме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ћ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ај говора (скандиран говор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окуларни покрети (нистагмуса, трзајеви булбуса)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Губитак мишићног тонуса-хипотон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3E25-2D36-4C5D-99C5-37BB801BBC20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2108-A8DE-4D86-80A5-20215EBB6C9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Церебеларне проб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Кординација стајања и ход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1.ход на </a:t>
            </a:r>
            <a:r>
              <a:rPr b="0" lang="sr-RS" sz="3200" spc="-1" strike="noStrike">
                <a:solidFill>
                  <a:srgbClr val="ffcc00"/>
                </a:solidFill>
                <a:latin typeface="Times New Roman"/>
              </a:rPr>
              <a:t>ш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ирокој основ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2. Компасни хо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. Ромбергов тес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АСТАЗИЈА, АБАЗ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6372360" y="2313000"/>
            <a:ext cx="174132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4C65-9E67-49F5-AC85-B863DD60965B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2A9D-74CC-4C6E-8948-E99F854BD0D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Церебеларне проб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Тестови кординације ектремитета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.тестови дијадохокинез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.проба прст-но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. Прст-нос-прс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4.Димић-Вуји</a:t>
            </a: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ева проб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5.пета-колен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Поремећај кординације:дизметриј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интенциони тремо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6559560" y="1542960"/>
            <a:ext cx="2428920" cy="1886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6570720" y="3581280"/>
            <a:ext cx="22194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8674-484D-439C-B446-0D87D94CCB7B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B553-8C3D-4B63-959B-94BE2BA1002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Церебеларне проб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Тестови сингериј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2268360" y="2708280"/>
            <a:ext cx="4284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Етиологија </a:t>
            </a:r>
            <a:r>
              <a:rPr b="0" lang="sr-RS" sz="4400" spc="-1" strike="noStrike">
                <a:solidFill>
                  <a:srgbClr val="ffcc00"/>
                </a:solidFill>
                <a:latin typeface="Times New Roman"/>
              </a:rPr>
              <a:t>о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штећењ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Стечена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 атакс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Наследна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 атакс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Идиопатске  спорадичне атаксиј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F712-3BBF-4E51-A76C-54F4084E980C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3128-ADCF-480A-A156-E10DAC116CA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54A6-2A74-42A4-AD50-6974CA4123D4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1889-1A0B-4E55-8A50-C7190A5E033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Подела церебеларних атаксиј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66290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1600200" y="685800"/>
            <a:ext cx="7543800" cy="599832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ff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59"/>
                </a:solidFill>
                <a:uFillTx/>
                <a:latin typeface="Times New Roman"/>
              </a:rPr>
              <a:t>Акутна, пролазна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1.Интоксикација(алкохол, барбитурати,фенитоин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2. хипертермиј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. Васкуларне лезије (инфаркти, крвављења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59"/>
                </a:solidFill>
                <a:uFillTx/>
                <a:latin typeface="Times New Roman"/>
              </a:rPr>
              <a:t>Акутна ,трајна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Интоксикација 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ж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ивом, толуеном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59"/>
                </a:solidFill>
                <a:uFillTx/>
                <a:latin typeface="Times New Roman"/>
              </a:rPr>
              <a:t>Субакутна(неколико недеља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1.тумори(медулобластом, а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ст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роцитом,хемангиобластом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2.алкохол-нутрициона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 Б1, Б1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3.паранеопласти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на (опсоклонус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59"/>
                </a:solidFill>
                <a:uFillTx/>
                <a:latin typeface="Times New Roman"/>
              </a:rPr>
              <a:t>Хроницна (месецима </a:t>
            </a:r>
            <a:r>
              <a:rPr b="1" lang="sr-RS" sz="2000" spc="-1" strike="noStrike" u="sng">
                <a:solidFill>
                  <a:srgbClr val="ffff59"/>
                </a:solidFill>
                <a:uFillTx/>
                <a:latin typeface="Times New Roman"/>
              </a:rPr>
              <a:t>и</a:t>
            </a:r>
            <a:r>
              <a:rPr b="1" lang="en-US" sz="2000" spc="-1" strike="noStrike" u="sng">
                <a:solidFill>
                  <a:srgbClr val="ffff59"/>
                </a:solidFill>
                <a:uFillTx/>
                <a:latin typeface="Times New Roman"/>
              </a:rPr>
              <a:t> годинама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1.Фридри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хова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ова атаксиј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2. Хередитарне метаболи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ке  болести (са миоклонусом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3. Мултипла склероз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cc"/>
                </a:solidFill>
                <a:latin typeface="Times New Roman"/>
              </a:rPr>
              <a:t>Стечен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акутни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сати или дани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интоксикације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алкохола, 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 difenilhidantoin, barbiturati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позитивна анамнеза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и токсиколошки налаз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Акутни вирусни 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 cerebelitis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нала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у ликвору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Церебеларни а</a:t>
            </a:r>
            <a:r>
              <a:rPr b="0" lang="sr-RS" sz="2000" spc="-1" strike="noStrike">
                <a:solidFill>
                  <a:srgbClr val="ffffcc"/>
                </a:solidFill>
                <a:latin typeface="Times New Roman"/>
              </a:rPr>
              <a:t>п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цес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Постинфективни синдром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васкуларни</a:t>
            </a: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инфаркти, хеморагије, хемтоми субдуралн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Rounded Rectangle 3"/>
          <p:cNvSpPr/>
          <p:nvPr/>
        </p:nvSpPr>
        <p:spPr>
          <a:xfrm>
            <a:off x="3857760" y="3214800"/>
            <a:ext cx="1428480" cy="357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7" name="Picture 4" descr="C:\Users\Info\Pictures\преузимање (6).jpg"/>
          <p:cNvPicPr/>
          <p:nvPr/>
        </p:nvPicPr>
        <p:blipFill>
          <a:blip r:embed="rId1"/>
          <a:stretch/>
        </p:blipFill>
        <p:spPr>
          <a:xfrm>
            <a:off x="5429160" y="285840"/>
            <a:ext cx="3143520" cy="2071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Users\Info\Pictures\alkohol-macht-locker-ja-aber-oft-auch-so-locker-dass-ihr-tun-jeglichen-sinn-und-verstand-verliert-das-sollten-sie-auf-jeden-fall-vermeiden-.jpg"/>
          <p:cNvPicPr/>
          <p:nvPr/>
        </p:nvPicPr>
        <p:blipFill>
          <a:blip r:embed="rId2"/>
          <a:stretch/>
        </p:blipFill>
        <p:spPr>
          <a:xfrm>
            <a:off x="357120" y="428760"/>
            <a:ext cx="44290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ff"/>
                </a:solidFill>
                <a:latin typeface="Times New Roman"/>
              </a:rPr>
              <a:t>Стечене атаксиј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субакутни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дани и дедеље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нтоксикације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олово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растварачи,лепак,хемиотерапија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Алкохол-нутритивни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недостатак витамина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 B</a:t>
            </a:r>
            <a:r>
              <a:rPr b="0" lang="en-GB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en-GB" sz="2400" spc="-1" strike="noStrike" baseline="-25000">
                <a:solidFill>
                  <a:srgbClr val="ffffcc"/>
                </a:solidFill>
                <a:latin typeface="Times New Roman"/>
              </a:rPr>
              <a:t>12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Lyme-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ска болес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Паранеопластчни синдром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ff"/>
                </a:solidFill>
                <a:latin typeface="Times New Roman"/>
              </a:rPr>
              <a:t>Стечене атаксиј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хронични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  (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месеци и године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Hipotireoidiz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abes dorsalis (tercijarni sifilis)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Мултипла склероз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Тумори церебелум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E299-9FC7-4153-AFD6-EA6198379680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1A9C-6673-4B62-A877-8D190DB4354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7" name="Picture 4" descr="N9_19S"/>
          <p:cNvPicPr/>
          <p:nvPr/>
        </p:nvPicPr>
        <p:blipFill>
          <a:blip r:embed="rId1"/>
          <a:stretch/>
        </p:blipFill>
        <p:spPr>
          <a:xfrm>
            <a:off x="1258920" y="765000"/>
            <a:ext cx="6481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EREBELU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840" y="1428840"/>
            <a:ext cx="86439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Састоји се од две хемисфере пове</a:t>
            </a:r>
            <a:r>
              <a:rPr b="0" lang="sr-RS" sz="28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ане вермисом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Везан је са осталим струк</a:t>
            </a:r>
            <a:r>
              <a:rPr b="0" lang="sr-RS" sz="2800" spc="-1" strike="noStrike">
                <a:solidFill>
                  <a:srgbClr val="ffffcc"/>
                </a:solidFill>
                <a:latin typeface="Times New Roman"/>
              </a:rPr>
              <a:t>т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урама</a:t>
            </a:r>
            <a:r>
              <a:rPr b="0" lang="sr-R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са 3 пара ножица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dunculi cerebell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Picture 5" descr="C:\Users\Info\Pictures\преузимање (8).jpg"/>
          <p:cNvPicPr/>
          <p:nvPr/>
        </p:nvPicPr>
        <p:blipFill>
          <a:blip r:embed="rId1"/>
          <a:stretch/>
        </p:blipFill>
        <p:spPr>
          <a:xfrm>
            <a:off x="4071960" y="2666880"/>
            <a:ext cx="464328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5977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Тумори малог мозга и 4. коморе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cc"/>
                </a:solidFill>
                <a:latin typeface="Times New Roman"/>
              </a:rPr>
              <a:t>Meduloblastom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чешћи код деце, врло малигни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осетљиви на РТГ зрачењ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cc"/>
                </a:solidFill>
                <a:latin typeface="Times New Roman"/>
              </a:rPr>
              <a:t>Astrocitom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код деце и одраслих, бенигнији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захватају само једну хемисферу малог мозг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2" name="Picture 1" descr="C:\Users\Info\Pictures\преузимање (7).jpg"/>
          <p:cNvPicPr/>
          <p:nvPr/>
        </p:nvPicPr>
        <p:blipFill>
          <a:blip r:embed="rId1"/>
          <a:stretch/>
        </p:blipFill>
        <p:spPr>
          <a:xfrm>
            <a:off x="6215040" y="1785960"/>
            <a:ext cx="20289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Тумори малог мозга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Ошти знаци се рано јављају</a:t>
            </a:r>
            <a:r>
              <a:rPr b="1" lang="sr-Latn-C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главобољ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повраћање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едем папиле очнг живц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Фокални </a:t>
            </a:r>
            <a:r>
              <a:rPr b="1" lang="sr-RS" sz="28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наци </a:t>
            </a:r>
            <a:r>
              <a:rPr b="1" lang="sr-RS" sz="28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ависе од локали</a:t>
            </a:r>
            <a:r>
              <a:rPr b="1" lang="sr-RS" sz="28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ације:</a:t>
            </a:r>
            <a:r>
              <a:rPr b="1" lang="sr-Latn-C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атаксија, хипотонија..</a:t>
            </a:r>
            <a:r>
              <a:rPr b="1" lang="sr-Latn-CS" sz="20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5" name="Picture 1" descr="C:\Users\Info\Pictures\images (5).jpg"/>
          <p:cNvPicPr/>
          <p:nvPr/>
        </p:nvPicPr>
        <p:blipFill>
          <a:blip r:embed="rId1"/>
          <a:stretch/>
        </p:blipFill>
        <p:spPr>
          <a:xfrm>
            <a:off x="6572160" y="1357200"/>
            <a:ext cx="1943280" cy="2428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C:\Users\Info\Pictures\Medulloblastoma1.jpg"/>
          <p:cNvPicPr/>
          <p:nvPr/>
        </p:nvPicPr>
        <p:blipFill>
          <a:blip r:embed="rId2"/>
          <a:stretch/>
        </p:blipFill>
        <p:spPr>
          <a:xfrm>
            <a:off x="5929200" y="4643280"/>
            <a:ext cx="28558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Етиологија </a:t>
            </a:r>
            <a:r>
              <a:rPr b="0" lang="sr-RS" sz="4400" spc="-1" strike="noStrike">
                <a:solidFill>
                  <a:srgbClr val="ffcc00"/>
                </a:solidFill>
                <a:latin typeface="Times New Roman"/>
              </a:rPr>
              <a:t>о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штећењ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Стечен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5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59"/>
                </a:solidFill>
                <a:latin typeface="Times New Roman"/>
              </a:rPr>
              <a:t>Наследн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Идиопатске  спорадичне атаксиј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9955-F536-48B4-B724-5D7D97646A8F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2830-A039-42B1-87F7-FAC8294E01C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Rounded Rectangle 5"/>
          <p:cNvSpPr/>
          <p:nvPr/>
        </p:nvSpPr>
        <p:spPr>
          <a:xfrm>
            <a:off x="928800" y="2714760"/>
            <a:ext cx="32860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A6EE-3615-4CAC-B5C2-00BC8EC5A8A4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F150-6675-4FC3-A042-93D5AA665F7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Хередитарне атакиј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Дегенеративне , наследн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Ауто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омно рецесивн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аутозомно доминантно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мутације у митохондријалном геном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Дегенерација на нивоу кичмене мождине (кортикоспинални, задњи снопови, спиноцеребеларни)+оливе+понс+мали мозак+видни живц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Почињу у детинству или средњем животном добу  и лагано прогредирају</a:t>
            </a:r>
            <a:r>
              <a:rPr b="0" lang="sr-RS" sz="2400" spc="-1" strike="noStrike">
                <a:solidFill>
                  <a:srgbClr val="ffff59"/>
                </a:solidFill>
                <a:latin typeface="Times New Roman"/>
              </a:rPr>
              <a:t>-хроничног ток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1E69-624E-49F9-A229-BF26F94A45D7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4849-67F5-486E-86A9-8432DAE6D92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riedreichova ataksij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пре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5 годин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утозомно рецесивн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линички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4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Мали мозак</a:t>
            </a:r>
            <a:r>
              <a:rPr b="0" lang="sr-RS" sz="3200" spc="-1" strike="noStrike">
                <a:solidFill>
                  <a:srgbClr val="ffcc00"/>
                </a:solidFill>
                <a:latin typeface="Times New Roman"/>
              </a:rPr>
              <a:t> дегенерација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пуркињеове ћелије, нк демтатус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атаксија стајања и ход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атаксија  ектремите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 дизартр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0" name="TAarefleks.avi" descr=""/>
          <p:cNvPicPr/>
          <p:nvPr/>
        </p:nvPicPr>
        <p:blipFill>
          <a:blip r:embed="rId1"/>
          <a:stretch/>
        </p:blipFill>
        <p:spPr>
          <a:xfrm>
            <a:off x="6084720" y="1628640"/>
            <a:ext cx="2590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03E7-0347-4E20-AE66-94A0000F53B7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D60B-928C-48EF-9434-886054F9249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cc00"/>
                </a:solidFill>
                <a:latin typeface="Times New Roman"/>
              </a:rPr>
              <a:t>Дегенерација ганглиона задњих коренова и з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адњи снопов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Оштећени вибрациони И позициони сензибилите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Угасени рефлекс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cc00"/>
                </a:solidFill>
                <a:latin typeface="Times New Roman"/>
              </a:rPr>
              <a:t>Дегенерција к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ортикоспинални пу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Слабост ногу, Бабински +; </a:t>
            </a:r>
            <a:r>
              <a:rPr b="0" lang="sr-CS" sz="2800" spc="-1" strike="noStrike">
                <a:solidFill>
                  <a:srgbClr val="ffffcc"/>
                </a:solidFill>
                <a:latin typeface="Times New Roman"/>
              </a:rPr>
              <a:t>К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роузонов зна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Атрофија оптикус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Слепило</a:t>
            </a:r>
            <a:r>
              <a:rPr b="0" lang="sr-RS" sz="2800" spc="-1" strike="noStrike">
                <a:solidFill>
                  <a:srgbClr val="ffffcc"/>
                </a:solidFill>
                <a:latin typeface="Times New Roman"/>
              </a:rPr>
              <a:t>, слух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Коштани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деформитети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(кифосолиоза,, деформација стопала,-Фриедреицхово стопало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Кардиомиопатија 5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riedreichovo stpalo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es cavus</a:t>
            </a:r>
            <a:br>
              <a:rPr sz="4400"/>
            </a:b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ekstenzija metatarzofalangelanih zglovova, fleksija interfalagealnih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232B-CF9E-4B2A-BA7D-2DFFC93646E2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E5FC-AFDE-4FDD-9F59-A3A4244F11A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8" name="Picture 2" descr="C:\Users\Info\Pictures\images (2).jpg"/>
          <p:cNvPicPr/>
          <p:nvPr/>
        </p:nvPicPr>
        <p:blipFill>
          <a:blip r:embed="rId1"/>
          <a:stretch/>
        </p:blipFill>
        <p:spPr>
          <a:xfrm>
            <a:off x="2500200" y="2786040"/>
            <a:ext cx="4071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дијагноз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ЕМНГ-губитак сен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орних аксона у периферним нервим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ЕКГ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хипертрофична  миокардиопатиј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МР-нема поремећаја малог мозга морфолошки, атрофија вратног дела кичмене можин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59"/>
                </a:solidFill>
                <a:latin typeface="Times New Roman"/>
              </a:rPr>
              <a:t>Генетско испитивање-хромозом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9-експанзија поновака ГАА у првом интрону 66-1000 пута-нагомилавање гвожђа у митохондријам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3895-55A2-4078-B36E-98A3F6FEFD6A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99F9-ECCF-44A5-992C-CFDB64FD1F8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прогн</a:t>
            </a:r>
            <a:r>
              <a:rPr b="0" lang="sr-RS" sz="4400" spc="-1" strike="noStrike">
                <a:solidFill>
                  <a:srgbClr val="ffcc00"/>
                </a:solidFill>
                <a:latin typeface="Times New Roman"/>
              </a:rPr>
              <a:t>о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з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8199-96C6-4767-AEA4-F83D95066E6A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8A01-F0EC-4854-BFA7-E15EA47E689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6" name="Picture 2" descr="C:\Users\Info\Pictures\преузимање (5).jpg"/>
          <p:cNvPicPr/>
          <p:nvPr/>
        </p:nvPicPr>
        <p:blipFill>
          <a:blip r:embed="rId1"/>
          <a:stretch/>
        </p:blipFill>
        <p:spPr>
          <a:xfrm>
            <a:off x="4500720" y="2286000"/>
            <a:ext cx="3852720" cy="29145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"/>
          <p:cNvSpPr/>
          <p:nvPr/>
        </p:nvSpPr>
        <p:spPr>
          <a:xfrm>
            <a:off x="357120" y="2071800"/>
            <a:ext cx="492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10-15 година не може самостално да се крећ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Смрт у  4. деценији кардилошки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терапија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Рехабилитациј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Идебенон  за хипертрофичну  кардиомиопатију(коензим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cc00"/>
                </a:solidFill>
                <a:latin typeface="Times New Roman"/>
              </a:rPr>
              <a:t>функционална организациј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Верми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Две симетричне хемисфер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DAA4-C656-447C-90A3-02E854DB02DD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3465-A8CB-4AF7-B49B-C132C10FEF3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6" descr="C:\Users\Info\Pictures\CerebellumDiv.png"/>
          <p:cNvPicPr/>
          <p:nvPr/>
        </p:nvPicPr>
        <p:blipFill>
          <a:blip r:embed="rId1"/>
          <a:stretch/>
        </p:blipFill>
        <p:spPr>
          <a:xfrm>
            <a:off x="2000160" y="3429000"/>
            <a:ext cx="71438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4A66-41E5-446A-932C-9781A564D936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0BC4-7321-42FB-A870-489F92614D3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Arnold-Chiarieva   малформација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ра</a:t>
            </a:r>
            <a:r>
              <a:rPr b="0" lang="sr-RS" sz="4000" spc="-1" strike="noStrike">
                <a:solidFill>
                  <a:srgbClr val="ffcc00"/>
                </a:solidFill>
                <a:latin typeface="Times New Roman"/>
              </a:rPr>
              <a:t>з</a:t>
            </a: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војна аномалија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Спу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тање  дела (тон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ла и 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з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адњег вермиса) церебелума у ки</a:t>
            </a:r>
            <a:r>
              <a:rPr b="0" lang="sr-CS" sz="2400" spc="-1" strike="noStrike">
                <a:solidFill>
                  <a:srgbClr val="ffffcc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мени канал  иза проду</a:t>
            </a:r>
            <a:r>
              <a:rPr b="0" lang="sr-CS" sz="2400" spc="-1" strike="noStrike">
                <a:solidFill>
                  <a:srgbClr val="ffffcc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ене мо</a:t>
            </a:r>
            <a:r>
              <a:rPr b="0" lang="sr-CS" sz="2400" spc="-1" strike="noStrike">
                <a:solidFill>
                  <a:srgbClr val="ffffcc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дине (затварају форамен магнум 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/ил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Спустање проду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ене мо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дине са 4. комором у кичмени кана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2819520" y="3276720"/>
            <a:ext cx="1600200" cy="759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3" name="Picture 6" descr="C:\Users\Info\Pictures\преузимање (2).jpg"/>
          <p:cNvPicPr/>
          <p:nvPr/>
        </p:nvPicPr>
        <p:blipFill>
          <a:blip r:embed="rId1"/>
          <a:stretch/>
        </p:blipFill>
        <p:spPr>
          <a:xfrm>
            <a:off x="4286160" y="3143160"/>
            <a:ext cx="51436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6649-778B-4FA6-86F1-7C8F747E68A1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36C5-9A95-4CFD-A62E-3F152D018EF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Клини</a:t>
            </a:r>
            <a:r>
              <a:rPr b="0" lang="sr-CS" sz="4400" spc="-1" strike="noStrike">
                <a:solidFill>
                  <a:srgbClr val="ffcc00"/>
                </a:solidFill>
                <a:latin typeface="Times New Roman"/>
              </a:rPr>
              <a:t>ч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ка сли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У одраслом доб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рогресивни церебеларни синдро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Повећани интракранијални притисак(хидроцефалус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Оштећење доње групе кранијалних нерав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омпресија можданог стабла, кичмене мождин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8" name="Picture 6" descr="C:\Users\Info\Pictures\преузимање (4).jpg"/>
          <p:cNvPicPr/>
          <p:nvPr/>
        </p:nvPicPr>
        <p:blipFill>
          <a:blip r:embed="rId1"/>
          <a:stretch/>
        </p:blipFill>
        <p:spPr>
          <a:xfrm>
            <a:off x="6715080" y="214200"/>
            <a:ext cx="21909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37F0-283B-47E2-A4D1-543D9464D9B6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B67A-392C-4C97-A440-C5872EEB2AA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Дијагностика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омјутеризованом томографијо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Магнетном резонанцо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Ле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ење-хирушк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3" name="Picture 7" descr="C:\Users\Info\Pictures\преузимање (3).jpg"/>
          <p:cNvPicPr/>
          <p:nvPr/>
        </p:nvPicPr>
        <p:blipFill>
          <a:blip r:embed="rId1"/>
          <a:stretch/>
        </p:blipFill>
        <p:spPr>
          <a:xfrm>
            <a:off x="4786200" y="3357720"/>
            <a:ext cx="3643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Лечење церебеларних поремећаја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симптоматски+узрок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604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onijazi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zostigm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-5-hidroksitriptof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tamin 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mantad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pranol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lonazep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EE0D-47F1-43CD-8C20-ABD1A6019D91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8F67-DEA8-4A36-B53A-04739CB0F76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cc00"/>
                </a:solidFill>
                <a:latin typeface="Times New Roman"/>
              </a:rPr>
              <a:t>Трансвезално гледано-3 дел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3714840"/>
            <a:ext cx="76723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59"/>
                </a:solidFill>
                <a:latin typeface="Times New Roman"/>
              </a:rPr>
              <a:t>Lobus floculonodulari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archicerebellum-Vestibulocerebelu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најстaриji део, функциja равнотеже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59"/>
                </a:solidFill>
                <a:latin typeface="Times New Roman"/>
              </a:rPr>
              <a:t>Lobus cerebeli anterior –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aleocerebellum</a:t>
            </a:r>
            <a:r>
              <a:rPr b="0" lang="en-US" sz="2000" spc="-1" strike="noStrike">
                <a:solidFill>
                  <a:srgbClr val="ffff59"/>
                </a:solidFill>
                <a:latin typeface="Times New Roman"/>
              </a:rPr>
              <a:t> -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pinocerebelum-prednji  vermis, lobus anteri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положај и ми</a:t>
            </a:r>
            <a:r>
              <a:rPr b="0" lang="sr-CS" sz="2000" spc="-1" strike="noStrike">
                <a:solidFill>
                  <a:srgbClr val="ffffcc"/>
                </a:solidFill>
                <a:latin typeface="Times New Roman"/>
              </a:rPr>
              <a:t>ш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и</a:t>
            </a:r>
            <a:r>
              <a:rPr b="0" lang="sr-CS" sz="2000" spc="-1" strike="noStrike">
                <a:solidFill>
                  <a:srgbClr val="ffffcc"/>
                </a:solidFill>
                <a:latin typeface="Times New Roman"/>
              </a:rPr>
              <a:t>ћ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ни тонус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59"/>
                </a:solidFill>
                <a:latin typeface="Times New Roman"/>
              </a:rPr>
              <a:t>Lobus cerebeli posterior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neocerebelum -Pontocerebelum-srednji deo vermisa, obe hemisfer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кординацију покрета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Picture 2" descr="C:\Users\Info\Pictures\cerebellum.jpg"/>
          <p:cNvPicPr/>
          <p:nvPr/>
        </p:nvPicPr>
        <p:blipFill>
          <a:blip r:embed="rId1"/>
          <a:stretch/>
        </p:blipFill>
        <p:spPr>
          <a:xfrm>
            <a:off x="1928880" y="1000080"/>
            <a:ext cx="55576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4A88-EFE6-439B-BB5E-1E29EEBB2BEB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CF02-BDFF-48B6-86F2-F28B64D1A29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Лонгитудинална функционална организациј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Средњи део-стајање и ход,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атаксија трупа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титурбац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Латерални-кординација ипсилатералних екстремитета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, хипотон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ора организована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соматотопи</a:t>
            </a:r>
            <a:r>
              <a:rPr b="0" lang="sr-CS" sz="3200" spc="-1" strike="noStrike">
                <a:solidFill>
                  <a:srgbClr val="ffffcc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н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6" descr="C:\Users\Info\Pictures\somatotopy_cerebellum1305851004465.jpg"/>
          <p:cNvPicPr/>
          <p:nvPr/>
        </p:nvPicPr>
        <p:blipFill>
          <a:blip r:embed="rId1"/>
          <a:stretch/>
        </p:blipFill>
        <p:spPr>
          <a:xfrm>
            <a:off x="4427640" y="4653000"/>
            <a:ext cx="4572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3414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Церебеларни кортек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Три ћелијска слој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Најближи белој маси-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грануларни слој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Преко њега слој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Пурки</a:t>
            </a:r>
            <a:r>
              <a:rPr b="0" lang="sr-RS" sz="2400" spc="-1" strike="noStrike">
                <a:solidFill>
                  <a:srgbClr val="ffff00"/>
                </a:solidFill>
                <a:latin typeface="Times New Roman"/>
              </a:rPr>
              <a:t>ње-ових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ћелије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(једине аутпут малог мозга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Молекуларни слој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(садржи две главне класе инхибиторних неурона:велике дендрите Пуркинијевих ћелија и дуге аксоне грануларних ћелиј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edra&gt;nc detatus, nc, fastigii, nc embolifomis I nc  globos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6" descr="C:\Users\Info\Pictures\cerebellum_cortex_10X.jpg"/>
          <p:cNvPicPr/>
          <p:nvPr/>
        </p:nvPicPr>
        <p:blipFill>
          <a:blip r:embed="rId1"/>
          <a:stretch/>
        </p:blipFill>
        <p:spPr>
          <a:xfrm>
            <a:off x="4500720" y="285840"/>
            <a:ext cx="4143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Пуркинијеве ћелиј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нхибиторни неурони за церебеларна и вестибуларна једра</a:t>
            </a:r>
            <a:r>
              <a:rPr b="0" lang="sr-RS" sz="2400" spc="-1" strike="noStrike">
                <a:solidFill>
                  <a:srgbClr val="ffffcc"/>
                </a:solidFill>
                <a:latin typeface="Times New Roman"/>
              </a:rPr>
              <a:t> (ГАБА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Информација из церебеларних једара је углавном ексцитаторна осим за оливарна инф једра(из денталног једра)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4" descr="C:\Users\Info\Pictures\cerebellum-02.jpg"/>
          <p:cNvPicPr/>
          <p:nvPr/>
        </p:nvPicPr>
        <p:blipFill>
          <a:blip r:embed="rId1"/>
          <a:stretch/>
        </p:blipFill>
        <p:spPr>
          <a:xfrm>
            <a:off x="5500800" y="3857760"/>
            <a:ext cx="29289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функције CEREBELUMA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2590920"/>
            <a:ext cx="6553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59"/>
                </a:solidFill>
                <a:latin typeface="Times New Roman"/>
              </a:rPr>
              <a:t>Контрола положаја и покре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Моторно учењ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огнитивне функциј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Учешће у контроли психичких функциј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59"/>
                </a:solidFill>
                <a:latin typeface="Times New Roman"/>
              </a:rPr>
              <a:t>Контрола положаја и покрета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168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Кординише агонисте и антагонисте и помоћну мускулатур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Глатки , временски и просторно ускла</a:t>
            </a:r>
            <a:r>
              <a:rPr b="0" lang="sr-RS" sz="3200" spc="-1" strike="noStrike">
                <a:solidFill>
                  <a:srgbClr val="ffffcc"/>
                </a:solidFill>
                <a:latin typeface="Times New Roman"/>
              </a:rPr>
              <a:t>ђ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ени, прецизни покрет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05C6-D75C-45D1-A9F7-0FC14455BCD7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A379-5FCF-4357-8DA3-8EED7F4B706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Down Arrow 5"/>
          <p:cNvSpPr/>
          <p:nvPr/>
        </p:nvSpPr>
        <p:spPr>
          <a:xfrm>
            <a:off x="4071960" y="3143160"/>
            <a:ext cx="71280" cy="500040"/>
          </a:xfrm>
          <a:prstGeom prst="downArrow">
            <a:avLst>
              <a:gd name="adj1" fmla="val 50000"/>
              <a:gd name="adj2" fmla="val 50113"/>
            </a:avLst>
          </a:prstGeom>
          <a:solidFill>
            <a:srgbClr val="cc00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fo</dc:creator>
  <dc:description/>
  <dc:language>en-US</dc:language>
  <cp:lastModifiedBy>User</cp:lastModifiedBy>
  <dcterms:modified xsi:type="dcterms:W3CDTF">2020-09-29T10:28:24Z</dcterms:modified>
  <cp:revision>104</cp:revision>
  <dc:subject/>
  <dc:title>PowerPoint Presentation</dc:title>
</cp:coreProperties>
</file>